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1846-B369-4702-B38D-64C504954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D6CD-FC7D-42F0-B44F-E053853E7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789E-DAE7-4FEB-AB87-00BBE5232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C033-3B0B-4A33-93B9-09386230C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74B7F-CB8A-4E02-8839-84631F970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7B239-BF11-4566-859C-690BDE757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DD589-BA65-472F-AF97-18E81AE19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865A0-A227-459A-8C8A-55B4B4F03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2CB7F-1ADA-4BF2-BE18-A213FD6A6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68454-897F-45B7-8586-640C713DF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D7DD3-3B4A-443F-A34B-40DF3848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A561-4297-4973-B451-9514BA4BB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D0280-A402-427B-9477-06ACC8CD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F1DD9-D4F0-4FD5-A7EC-68A91D19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4D3D6-3158-4B5C-9CA1-29DCCC03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D5542-2B10-4200-870D-48BE18953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0986C-A068-424C-A894-77D269F07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303E5-E57D-43DE-9152-5EBCE733A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ECCBD-15CC-4520-92DC-53B9465B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58AB0-587C-424D-B04D-35935E3B7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FE20B-8497-4140-B214-E715E8AEE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96362-EEAC-4600-9AC2-54D72CEEA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0E02-AA3B-481E-81AE-114477296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00174-1C1B-455C-9F7E-0E68BD7F7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A8252-4853-4842-AC76-5E5F1D76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52375-60EE-463A-A9FC-C50A249B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1F631-49FD-4765-8388-C722D0E9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3A7B8-D555-4853-86BD-20186D4A3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EFC71-CB88-4C72-9446-45787A93D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830E2-B385-4A30-9F8B-88BF16A02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1F5F5-F61E-48CC-9BDB-6EA4C1A0D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D0FF3-BBC3-4AB4-ACE5-9CFEA680F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BBC54-B0E2-424C-A8EB-B495311CE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491B-107C-46EE-9A18-72E4EBA49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58B85-73E8-4C28-AEC5-452FA7877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2760B-D03B-41F1-BBC2-00D9232EA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FCAB9-AF25-4E1C-A7E8-2706E3F38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B4F8A-4B04-485D-949C-27212725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B74CA-1D81-4D35-A855-707D5F36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E0828-EB95-4594-ADBE-0A5396AD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3F8B3-FE15-46AA-AC63-5459841FD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5D5B9-11CE-44D2-9DA3-7A3A2DE54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E46CC-80D8-4F46-A9C1-088733284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401A-2966-4B68-A2CB-17449757B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109A-AF51-429B-9C5F-FF2D0F665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5C4B-E48F-4910-BD2A-F4B772A4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F34E-54D2-44EA-AAD1-B9EE36D4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42E0-C6D7-4E07-B482-B5AB8B6F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DC7A2-E094-4072-B676-1366B55761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4CDE4-E9B8-48F2-A51D-7F6475ACF4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52F7C-64BA-4F5E-9C66-4BCBE69E3D9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7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17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4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3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34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37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38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40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90C1-3139-4210-93AB-688E55CFC12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91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95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00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01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05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0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66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Arial Black"/>
              </a:rPr>
              <a:t>FIGURI</a:t>
            </a:r>
            <a:r>
              <a:rPr b="1" lang="en-US" sz="5400" spc="-1" strike="noStrike">
                <a:solidFill>
                  <a:srgbClr val="ff0066"/>
                </a:solidFill>
                <a:latin typeface="Arial Black"/>
              </a:rPr>
              <a:t> </a:t>
            </a:r>
            <a:r>
              <a:rPr b="0" lang="en-US" sz="5400" spc="-1" strike="noStrike">
                <a:solidFill>
                  <a:srgbClr val="ff0066"/>
                </a:solidFill>
                <a:latin typeface="Arial Black"/>
              </a:rPr>
              <a:t>DE STIL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990720" y="3962160"/>
            <a:ext cx="6781680" cy="2438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66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ZENTARE GENERAL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Prof. Irina Gâng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838080" y="349560"/>
            <a:ext cx="6705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ANTITEZA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= prezentarea în opoziţie a unor caracteristici, personaje, idei, cu scopul de a evidenţia o categorie dintre e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„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Voi,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pierduţi în gânduri sânte, convorbeaţi cu idealur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Noi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cârpim cerul cu stele, noi mânjim marea cu valuri...” - Eminesc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447920" y="3503880"/>
            <a:ext cx="6172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IMPRECAŢIA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= se formulează dorinţa de a-l vadea pe adversar pedepsit pentru defectele sale sau pentru comportamentul blamab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„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Ah, Dumnezeu, nedrept stăpâ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M-a duşmănittrăind mere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Şi-a pizmuit norocul meu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E un păgân şi Dumnezeu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E un păgân” - Coşbu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609480" y="168480"/>
            <a:ext cx="60199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HIPERBOLA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= exagerarea voită a trăsăturilor şi staturii unui personaj, a dimensiunilor unui obiect cu scopul de a reliefa importanţa sa, măreţ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„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Sălbaticul Vodă e-n zale şi f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Şi zalele-i zuruie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cru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Gigantică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poart-o cupolă pe fru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Şi vorba-i e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tunet,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răsufletul -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Şi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barda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din stânga-i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ajunge la c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Şi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Vodă-i un munte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! ” - Coşbu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95280" y="3916800"/>
            <a:ext cx="7010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LITOTA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= •  o formă a disimulării prin intermediul căreia se lasă a se înţelege mai mult decât se spun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„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Când vezi piatra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ce nu simte nici durerea şi nici mi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De ai inimă şi minte – feri în laturi, e Dalila! ” – Eminesc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inversul hiperbolei, minimalizare voit exagerat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                     „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Atâta strălucire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-nca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În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bietul bordeiaş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de paie...” – Gog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cc0000"/>
                </a:solidFill>
                <a:latin typeface="Arial Black"/>
              </a:rPr>
              <a:t>D. Figuri de semnificaţi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380880" y="905040"/>
            <a:ext cx="84582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o-RO" sz="1600" spc="-1" strike="noStrike">
                <a:solidFill>
                  <a:srgbClr val="ffffff"/>
                </a:solidFill>
                <a:latin typeface="Arial"/>
              </a:rPr>
              <a:t>EPITETUL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 = constă în reliefarea unor însuşiri deosebite ale obiectelor, fiinţelor, ideilor, fenomenelor şi stărilor sufleteşti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o-RO" sz="1600" spc="-1" strike="noStrike" u="sng">
                <a:solidFill>
                  <a:srgbClr val="ffffff"/>
                </a:solidFill>
                <a:uFillTx/>
                <a:latin typeface="Arial"/>
              </a:rPr>
              <a:t>Clasificare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:   a) ornant/ general:  „ Ochii tăi </a:t>
            </a: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mari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 caută-n frunza </a:t>
            </a: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cea rară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.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b) individual :”Frumos odor e Fulga! Şi </a:t>
            </a: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naltă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-i e făptura.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c) cromatic : „ Mii de fluturi mici </a:t>
            </a: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albaştri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”  „ Curg în râuri </a:t>
            </a: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sclipitoare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.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d) personificator: „Ele [izvoarele] trec cu </a:t>
            </a: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harnici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 unde şi suspină-n flori </a:t>
            </a: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molatic</a:t>
            </a:r>
            <a:r>
              <a:rPr b="1" lang="ro-RO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e) comparativ : „El are glas puternic ... /Şi mers </a:t>
            </a: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cu legănare 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de gingaşă fecioară.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f) metaforic: „ Şi </a:t>
            </a: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părul său de aur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 în creţuri lungi se lasă / Ca pe strujanul verde </a:t>
            </a:r>
            <a:r>
              <a:rPr b="1" lang="ro-RO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un caier de mătasă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. „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g) hiperbolic: „ Şi zalele-i zuruie </a:t>
            </a: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crunte, / Gigantică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 poart-o cupolă pe frunte…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h) aliterativ : </a:t>
            </a: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„ Într-o sălbatică splendoare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i ) onomatopeic : „ Ecou-i răspunde cu vocea-i </a:t>
            </a: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vuindă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.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j) pleonastic : „ Peste care trece-n zgomot </a:t>
            </a: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o mulţime de norod</a:t>
            </a:r>
            <a:r>
              <a:rPr b="1" lang="ro-RO" sz="1600" spc="-1" strike="noStrike">
                <a:solidFill>
                  <a:srgbClr val="ffffff"/>
                </a:solidFill>
                <a:latin typeface="Arial"/>
              </a:rPr>
              <a:t>.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k) sinestezic: „Primăvară…/</a:t>
            </a: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O pictură parfumată cu vibrări de violet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.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l) aspaţial şi atemporal : „ Plutea-n acest </a:t>
            </a: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imens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 senin.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m) oximoronic : „ Venere</a:t>
            </a: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, marmură caldă, ochi de piatră ce scânteie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.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n) tautulogic : </a:t>
            </a:r>
            <a:r>
              <a:rPr b="1" lang="ro-RO" sz="1600" spc="-1" strike="noStrike">
                <a:solidFill>
                  <a:srgbClr val="ffffff"/>
                </a:solidFill>
                <a:latin typeface="Arial"/>
              </a:rPr>
              <a:t>„ </a:t>
            </a: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tăpşanul prăvălatic</a:t>
            </a:r>
            <a:r>
              <a:rPr b="1" lang="ro-RO" sz="1600" spc="-1" strike="noStrike">
                <a:solidFill>
                  <a:srgbClr val="ffffff"/>
                </a:solidFill>
                <a:latin typeface="Arial"/>
              </a:rPr>
              <a:t>”   </a:t>
            </a: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„ făclii prealuminate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o) inversat : „ </a:t>
            </a: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Bătrânul</a:t>
            </a:r>
            <a:r>
              <a:rPr b="1" lang="ro-RO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mag înalţă fruntea, / Ce </a:t>
            </a: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sfânt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 e graiul gurii sale.”</a:t>
            </a:r>
            <a:r>
              <a:rPr b="1" lang="ro-RO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ro-RO" sz="1600" spc="-1" strike="noStrike" u="sng">
                <a:solidFill>
                  <a:srgbClr val="ffffff"/>
                </a:solidFill>
                <a:uFillTx/>
                <a:latin typeface="Arial"/>
              </a:rPr>
              <a:t>Structură</a:t>
            </a:r>
            <a:r>
              <a:rPr b="1" lang="ro-RO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:  - simple;  duble; triple; pletoră ( mai mult de trei determinări); reluat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72960" y="1202400"/>
            <a:ext cx="847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SINECDOCA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= îmlocuirea unui nume prin altul pe baza relaţiei cantita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                        „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E cerul plin de ste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Şi câmpul încă plin de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roze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.” - Macedonsk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68240" y="2436840"/>
            <a:ext cx="79948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4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METONIMIA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= numele unui obiect este înlocuit cu un altul prin corespondenţă direct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a cauzei / a efectului: „ Voiam să-mi sparg veninul, să uit cele trecute”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–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I.H.Rădulesc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a instrumentului „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Laurii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voiau să-i smulgă de pe fruntea ta de fier” –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Eminesc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a posesorului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a întregului prin parte: „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Braţul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lui prin taberi mii de morţi împarte” –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Bolintinean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a conţinătorului prin conţinut: „ Fiarbă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vinu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-n cupe,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spumeg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pocalul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!  ” - Eminesc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380880" y="273240"/>
            <a:ext cx="79250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SINESTEZIA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= varietate metaforică constând într-un complex de senzaţii transpuse prin îmbinare de imagini vizuale, auditive, tactile, olfactive, gustati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        „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Primăvara... o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pictură parfumată cu vibrări de violet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!” – Bacov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   „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Cântecul tău a umplut clădirea toată [...] ca o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lavandă sonoră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” - Arghez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981080" y="3283560"/>
            <a:ext cx="6324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SIMBOLUL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= semn concret ce reprezintă un alt obiect, o persoană,o situaţie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ontologic / de natură:  crucea pentru Creştinis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analogic / de formă: porumbeii pentru iubire/P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convenţional / de înţelegere: drapelele satel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1371600" y="2681280"/>
            <a:ext cx="6705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577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cc0000"/>
                </a:solidFill>
                <a:latin typeface="Arial"/>
              </a:rPr>
              <a:t>E. Figuri de analogi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577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685800" y="548280"/>
            <a:ext cx="6248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PERSONIFICAREA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= atribuirea unor însuşiri umane unor obiecte, lucruri, abstracţiu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„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Printre gratii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luna moale, sfiicioasă şi smerită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/ şi-au vărsat razele ei” – Emines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209680" y="3445200"/>
            <a:ext cx="5639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COMPARAŢIA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 = punerea în paralel a doi termeni pentru a evidenţia caracteristicile unu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„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În pâlnia muntelui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iezerul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 netulburat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ca un ochi al lumii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, s-a deschis”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Blag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85800" y="1185840"/>
            <a:ext cx="79246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METAFORA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= transfer de sens între între obiecte ( presupune o comparaţie neexprimată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2000" spc="-1" strike="noStrike" u="sng">
                <a:solidFill>
                  <a:srgbClr val="ffffff"/>
                </a:solidFill>
                <a:uFillTx/>
                <a:latin typeface="Arial"/>
              </a:rPr>
              <a:t>Realizare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: - in presentia/explicită: „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Noaptea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-i o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regină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lunatec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şi brună” - Eminesc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- in absentia/implicită: „ Nevinovatul, noul ou –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palat 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nuntă şi cavou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” - Barb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 u="sng">
                <a:solidFill>
                  <a:srgbClr val="ffffff"/>
                </a:solidFill>
                <a:uFillTx/>
                <a:latin typeface="Arial"/>
              </a:rPr>
              <a:t>Tipuri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 concret-concret: „Spune, tu,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Noapte, martor de  smarald”      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Arghez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abstract-concret: „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Tăcerea gândului şi-a orei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” – Arghez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concret- abstract: „ Şi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gândirea-i arătur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Peste care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boi de zgură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plutesc”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abstract-abstract: „ Din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vecinicia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ta nu sunt măcar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un ceas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” - Arghez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362320"/>
            <a:ext cx="83851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cc0000"/>
                </a:solidFill>
                <a:latin typeface="Arial Black"/>
              </a:rPr>
              <a:t>F. Figuri sintactico-semanti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0066"/>
                </a:solidFill>
                <a:latin typeface="Castellar"/>
              </a:rPr>
              <a:t>FIGURI DE STI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Figuri de sunet / de repetiţ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Figuri de construcţ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Figuri de gândi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90680" indent="-4906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Figuri de semnificaţ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0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0680" indent="-4906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Figuri de analog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0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0680" indent="-4906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Figu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 sintactico-semanti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0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0680" indent="-4906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Figuri de insistenţă / de adres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0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371600" y="268920"/>
            <a:ext cx="5943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OXIMORONUL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= asociere paradoxală a doi termeni contradictor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„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Suferinţă, tu,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dureros de dulce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...”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Emines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Culorile le iau din apă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Din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dulci otrăvuri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 şi din vânt..” – Blag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DIAFORA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 = utilizarea succesivă a unui cuvânt cu înţelesuri diferite în acelaşi con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„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Pâinea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fierul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 o rodeşte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Tot cu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fierul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 o păstrăm” – Bolli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2438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cc0000"/>
                </a:solidFill>
                <a:latin typeface="Arial Black"/>
              </a:rPr>
              <a:t>G. Figuri de insistenţă / </a:t>
            </a:r>
            <a:br>
              <a:rPr sz="4400"/>
            </a:br>
            <a:r>
              <a:rPr b="1" lang="ro-RO" sz="4400" spc="-1" strike="noStrike">
                <a:solidFill>
                  <a:srgbClr val="cc0000"/>
                </a:solidFill>
                <a:latin typeface="Arial Black"/>
              </a:rPr>
              <a:t>          de adresa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380880" y="51840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INTEROGAŢIA RETORICĂ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 = formularea une întrebări la care poetul nu aşteaptă un răspuns, întrebarea având valoare emfatic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„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Şi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te slujesc, dar, Doamne, până când?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” - Arghez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523880" y="3550320"/>
            <a:ext cx="7239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INVOCAŢIA POETICĂ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 = interpelare adresată unei muze, divinităţii etc. cu scopul de a formula o rugăminte, o cerere, un îndem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Tare sunt singur, Doamne, şi pieziş!” –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Arghez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„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Cum nu vii tu, Ţepeş Doamne...!?”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 - Emines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3520" y="2438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cc0000"/>
                </a:solidFill>
                <a:latin typeface="Arial Black"/>
              </a:rPr>
              <a:t>A.     </a:t>
            </a:r>
            <a:r>
              <a:rPr b="1" lang="en-US" sz="4400" spc="-1" strike="noStrike">
                <a:solidFill>
                  <a:srgbClr val="cc0000"/>
                </a:solidFill>
                <a:latin typeface="Arial Black"/>
              </a:rPr>
              <a:t>Figuri de </a:t>
            </a:r>
            <a:r>
              <a:rPr b="1" lang="ro-RO" sz="4400" spc="-1" strike="noStrike">
                <a:solidFill>
                  <a:srgbClr val="cc0000"/>
                </a:solidFill>
                <a:latin typeface="Arial Black"/>
              </a:rPr>
              <a:t>sunet/ de repetiţi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omic Sans MS"/>
              </a:rPr>
              <a:t>ANAFORA 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= repetarea unui cuvânt / sintagme la începutul unei fraze / al unui v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„</a:t>
            </a:r>
            <a:r>
              <a:rPr b="1" lang="ro-RO" sz="2400" spc="-1" strike="noStrike">
                <a:solidFill>
                  <a:srgbClr val="000000"/>
                </a:solidFill>
                <a:latin typeface="Comic Sans MS"/>
              </a:rPr>
              <a:t>Când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 viforul se scoală, </a:t>
            </a:r>
            <a:r>
              <a:rPr b="1" lang="ro-RO" sz="2400" spc="-1" strike="noStrike">
                <a:solidFill>
                  <a:srgbClr val="000000"/>
                </a:solidFill>
                <a:latin typeface="Comic Sans MS"/>
              </a:rPr>
              <a:t>când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 cerul se mâni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Comic Sans MS"/>
              </a:rPr>
              <a:t>Când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 negura se-ntinde, </a:t>
            </a:r>
            <a:r>
              <a:rPr b="1" lang="ro-RO" sz="2400" spc="-1" strike="noStrike">
                <a:solidFill>
                  <a:srgbClr val="000000"/>
                </a:solidFill>
                <a:latin typeface="Comic Sans MS"/>
              </a:rPr>
              <a:t>când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 norii se-mpletesc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Comic Sans MS"/>
              </a:rPr>
              <a:t>Când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 focul sărpuieşte d-a lungul în tări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Cu fulgerul, atuncea cu groază te privesc.”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Alexandrescu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"/>
          <p:cNvSpPr/>
          <p:nvPr/>
        </p:nvSpPr>
        <p:spPr>
          <a:xfrm>
            <a:off x="530280" y="4496040"/>
            <a:ext cx="828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EPIFORA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repetarea unui cuvânt / sintagme la sfârşitu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unei fraze  /al  unui 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80880" y="227880"/>
            <a:ext cx="8401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ASONANŢA =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repetarea unei vocale accentuate într-o secvenţă verbal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  „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Când torsul s-aude l-al vrăjilor ca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Argint e pe ape şi aur în aer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3120" y="2833560"/>
            <a:ext cx="908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ALITERAŢIA = repetarea unor consoan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                         „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Vâjâind ca vijelia şi ca plesnetul de ploaie... „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Emines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33520" y="4722120"/>
            <a:ext cx="830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ONOMATOPEEA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 = imitarea de sunete şi zgomote din natură cu scopul creeării de imagini auditive dinamic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„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A popoarelor de muşte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sărbători murmuitoare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”             Emines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58880" y="22860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cc0000"/>
                </a:solidFill>
                <a:latin typeface="Arial Black"/>
              </a:rPr>
              <a:t>B. Figuri de construcţi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12480" y="2285640"/>
            <a:ext cx="839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INVERSIUNEA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= schimbarea ordinii obişnuite a cuvintelor într-un vers / propoziţ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                       „ 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A ierbii / Molatece lanuri le treieră cerbii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34720" y="396360"/>
            <a:ext cx="702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TAUTOLOGIA 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= repetarea prin derivare din aceeaşi familie lexical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                        „ 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Ce e val ca valul trece...”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                        „ 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Vom visa un vis ferice...” - Eminesc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751040" y="4282920"/>
            <a:ext cx="5705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ENUMERAŢIA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 = înşiruirea unor termeni de acelaşi fe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pentru a amplifica ideea exprimat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         „ 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Eram aşa de obosi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de primăver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de trandafir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de tinereţe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şi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de râs”- 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Blag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44280" y="2833560"/>
            <a:ext cx="905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PARALELISMU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L= alăturarea a două aspecte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idei / sentimente cu efect de intensific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paralelism sinonimic: ideea e redată de cuv din aceeaşi sferă semantic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paralelism antitetic: imagini contrasta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paralelism sintetic: dispunerea ideilor în ritm simetr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2599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EPIZEUXISU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L = reluarea imediată a unui cuvânt în vers / frază cu efectul de intensific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                       „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Flori de tei deasupra noastr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Or să cadă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rânduri-rânduri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” - Eminesc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990720" y="4952520"/>
            <a:ext cx="79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HIPERBAT( DISLOCAREA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) = procedeu retoric constând în introducerea în topica obişnuită a unui cuvânt/ sintagme în topică invers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 „ 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Eşti ca vioara,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singură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, ce cântă...” - Arghez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752480" y="2438280"/>
            <a:ext cx="70106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cc0000"/>
                </a:solidFill>
                <a:latin typeface="Arial Black"/>
              </a:rPr>
              <a:t>C. Figuri de gândi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. remus</cp:lastModifiedBy>
  <dcterms:modified xsi:type="dcterms:W3CDTF">2007-02-25T17:58:05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